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4187D-4B2B-4ACF-8F0D-ECB053CA2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5E4DA-371C-4930-B5A5-F4457886A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8FD39-FFFE-4CA0-9DDD-7736F7D15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87F59-2079-4A50-8C23-B9D8FE6D6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6E441-FC49-46AB-BF64-3E7194B2A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5B427-0094-4E30-820D-26628AA57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719A8-7C4B-4A7A-8A36-F5BF37984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07BF0-1DE0-458A-B98C-BD30BFFDB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D3CA9-F30B-4E79-B560-BF73AB0F0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CF4AD-D045-4479-8223-A8C85CE0C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5C182-1D6A-4AA6-98D8-5862E4279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2703B-7B53-46E7-A9AC-9A5ACAEC6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F7A9E-9AF3-439F-B1AC-D248633F43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9D3AD-8835-4BCD-9FF5-87B198AB04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Times New Roman"/>
              </a:rPr>
              <a:t>ASOCIACIÓN ARGENTINA DE ESTUDIOS FISC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2514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Times New Roman"/>
              </a:rPr>
              <a:t>CICLO INTRODUCTORIO A LA ESPECIALIDAD TRIBUTAR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Times New Roman"/>
              </a:rPr>
              <a:t>Primer semestre 20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Times New Roman"/>
              </a:rPr>
              <a:t>24/04/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Times New Roman"/>
              </a:rPr>
              <a:t>IMPUESTO AL VALOR AGREG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Times New Roman"/>
              </a:rPr>
              <a:t>Pablo Andres Robledo y Angel Pere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Rectangle 4"/>
          <p:cNvSpPr/>
          <p:nvPr/>
        </p:nvSpPr>
        <p:spPr>
          <a:xfrm>
            <a:off x="380880" y="380880"/>
            <a:ext cx="8305920" cy="586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94D9A-1661-4835-8C06-784C33CF00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2"/>
          <p:cNvSpPr/>
          <p:nvPr/>
        </p:nvSpPr>
        <p:spPr>
          <a:xfrm>
            <a:off x="1116000" y="692280"/>
            <a:ext cx="8207280" cy="728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Sujetos del exterio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mportador, prestatario, responsable sustitu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Personas human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enores de edad / incapac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ausante///Herederos (Neutralida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Responsab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adres, tutores y cura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Herederos, administra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(deuda propia y/o ajen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3"/>
          <p:cNvSpPr/>
          <p:nvPr/>
        </p:nvSpPr>
        <p:spPr>
          <a:xfrm>
            <a:off x="304920" y="304920"/>
            <a:ext cx="8610480" cy="617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8A709-B617-43A2-A138-B554B9E982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2"/>
          <p:cNvSpPr/>
          <p:nvPr/>
        </p:nvSpPr>
        <p:spPr>
          <a:xfrm>
            <a:off x="660240" y="990720"/>
            <a:ext cx="80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 u="sng">
                <a:solidFill>
                  <a:srgbClr val="000000"/>
                </a:solidFill>
                <a:uFillTx/>
                <a:latin typeface="Times New Roman"/>
              </a:rPr>
              <a:t>Ventas / - por cuenta  de terceros-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425520" y="1360440"/>
            <a:ext cx="195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A nombre propi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4"/>
          <p:cNvSpPr/>
          <p:nvPr/>
        </p:nvSpPr>
        <p:spPr>
          <a:xfrm>
            <a:off x="2824200" y="15937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6"/>
          <p:cNvSpPr/>
          <p:nvPr/>
        </p:nvSpPr>
        <p:spPr>
          <a:xfrm>
            <a:off x="3267360" y="1285920"/>
            <a:ext cx="57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em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8"/>
          <p:cNvSpPr/>
          <p:nvPr/>
        </p:nvSpPr>
        <p:spPr>
          <a:xfrm>
            <a:off x="2824200" y="1593720"/>
            <a:ext cx="1457280" cy="82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9"/>
          <p:cNvSpPr/>
          <p:nvPr/>
        </p:nvSpPr>
        <p:spPr>
          <a:xfrm>
            <a:off x="4689720" y="2158920"/>
            <a:ext cx="1972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Liquidación al comite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(Crédito Fisca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11"/>
          <p:cNvSpPr/>
          <p:nvPr/>
        </p:nvSpPr>
        <p:spPr>
          <a:xfrm>
            <a:off x="228600" y="228600"/>
            <a:ext cx="8610480" cy="6324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12"/>
          <p:cNvSpPr/>
          <p:nvPr/>
        </p:nvSpPr>
        <p:spPr>
          <a:xfrm>
            <a:off x="441360" y="270000"/>
            <a:ext cx="178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Otros suje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1 Rectángulo"/>
          <p:cNvSpPr/>
          <p:nvPr/>
        </p:nvSpPr>
        <p:spPr>
          <a:xfrm>
            <a:off x="4692600" y="1281240"/>
            <a:ext cx="2286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Factura venta a tercero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(Débito Fiscal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1 Rectángulo"/>
          <p:cNvSpPr/>
          <p:nvPr/>
        </p:nvSpPr>
        <p:spPr>
          <a:xfrm>
            <a:off x="736560" y="2805120"/>
            <a:ext cx="353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 u="sng">
                <a:solidFill>
                  <a:srgbClr val="000000"/>
                </a:solidFill>
                <a:uFillTx/>
                <a:latin typeface="Times New Roman"/>
              </a:rPr>
              <a:t>Compras / - por cuenta  de terceros-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2 Rectángulo"/>
          <p:cNvSpPr/>
          <p:nvPr/>
        </p:nvSpPr>
        <p:spPr>
          <a:xfrm>
            <a:off x="746280" y="3341520"/>
            <a:ext cx="21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A nombre propi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Line 4"/>
          <p:cNvSpPr/>
          <p:nvPr/>
        </p:nvSpPr>
        <p:spPr>
          <a:xfrm>
            <a:off x="2976480" y="36352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Line 8"/>
          <p:cNvSpPr/>
          <p:nvPr/>
        </p:nvSpPr>
        <p:spPr>
          <a:xfrm>
            <a:off x="2995560" y="3635280"/>
            <a:ext cx="1457280" cy="82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1 Rectángulo"/>
          <p:cNvSpPr/>
          <p:nvPr/>
        </p:nvSpPr>
        <p:spPr>
          <a:xfrm>
            <a:off x="4511520" y="340344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Liquidación al comite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1 Rectángulo"/>
          <p:cNvSpPr/>
          <p:nvPr/>
        </p:nvSpPr>
        <p:spPr>
          <a:xfrm>
            <a:off x="4576680" y="4114800"/>
            <a:ext cx="2286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Factura del vendedor (Proveedor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6"/>
          <p:cNvSpPr/>
          <p:nvPr/>
        </p:nvSpPr>
        <p:spPr>
          <a:xfrm>
            <a:off x="3262680" y="3327480"/>
            <a:ext cx="57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em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6"/>
          <p:cNvSpPr/>
          <p:nvPr/>
        </p:nvSpPr>
        <p:spPr>
          <a:xfrm rot="1483800">
            <a:off x="3363120" y="4052880"/>
            <a:ext cx="61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reci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21 Rectángulo"/>
          <p:cNvSpPr/>
          <p:nvPr/>
        </p:nvSpPr>
        <p:spPr>
          <a:xfrm>
            <a:off x="704520" y="4659480"/>
            <a:ext cx="477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 u="sng">
                <a:solidFill>
                  <a:srgbClr val="000000"/>
                </a:solidFill>
                <a:uFillTx/>
                <a:latin typeface="Times New Roman"/>
              </a:rPr>
              <a:t>Ventas/ Compras – nombre y cuenta  de terceros-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22 Rectángulo"/>
          <p:cNvSpPr/>
          <p:nvPr/>
        </p:nvSpPr>
        <p:spPr>
          <a:xfrm>
            <a:off x="753480" y="5157720"/>
            <a:ext cx="259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En nombre de tercer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Line 4"/>
          <p:cNvSpPr/>
          <p:nvPr/>
        </p:nvSpPr>
        <p:spPr>
          <a:xfrm>
            <a:off x="3348000" y="534204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6"/>
          <p:cNvSpPr/>
          <p:nvPr/>
        </p:nvSpPr>
        <p:spPr>
          <a:xfrm>
            <a:off x="3648600" y="5030640"/>
            <a:ext cx="57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em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1 Rectángulo"/>
          <p:cNvSpPr/>
          <p:nvPr/>
        </p:nvSpPr>
        <p:spPr>
          <a:xfrm>
            <a:off x="4735440" y="5176800"/>
            <a:ext cx="30402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Factura por comisión (al mandan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9D2A2-2BD9-48CD-9773-2DB89B64CD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 u="sng">
                <a:solidFill>
                  <a:srgbClr val="000000"/>
                </a:solidFill>
                <a:uFillTx/>
                <a:latin typeface="Times New Roman"/>
              </a:rPr>
              <a:t>Entes Colectiv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1212120" y="2174760"/>
            <a:ext cx="43149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sorci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UTE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tratos asociati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Ot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grupamientos de profesion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tratos en participa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Otros suje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Rectangle 4"/>
          <p:cNvSpPr/>
          <p:nvPr/>
        </p:nvSpPr>
        <p:spPr>
          <a:xfrm>
            <a:off x="304920" y="304920"/>
            <a:ext cx="8610480" cy="617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69012-DEAA-41ED-A67B-37A2986841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 u="sng">
                <a:solidFill>
                  <a:srgbClr val="000000"/>
                </a:solidFill>
                <a:uFillTx/>
                <a:latin typeface="Times New Roman"/>
              </a:rPr>
              <a:t>Entes Colectiv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3"/>
          <p:cNvSpPr/>
          <p:nvPr/>
        </p:nvSpPr>
        <p:spPr>
          <a:xfrm>
            <a:off x="761760" y="3505320"/>
            <a:ext cx="175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UTE    em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3274560" y="2895480"/>
            <a:ext cx="242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Factura a tercer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5"/>
          <p:cNvSpPr/>
          <p:nvPr/>
        </p:nvSpPr>
        <p:spPr>
          <a:xfrm>
            <a:off x="3294360" y="3962520"/>
            <a:ext cx="461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ota de asignación a sus integra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6"/>
          <p:cNvSpPr/>
          <p:nvPr/>
        </p:nvSpPr>
        <p:spPr>
          <a:xfrm>
            <a:off x="964800" y="5299200"/>
            <a:ext cx="570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neficiente acumulación de créditos fisc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Line 7"/>
          <p:cNvSpPr/>
          <p:nvPr/>
        </p:nvSpPr>
        <p:spPr>
          <a:xfrm>
            <a:off x="2666880" y="320040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Line 8"/>
          <p:cNvSpPr/>
          <p:nvPr/>
        </p:nvSpPr>
        <p:spPr>
          <a:xfrm>
            <a:off x="2666880" y="4267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Line 9"/>
          <p:cNvSpPr/>
          <p:nvPr/>
        </p:nvSpPr>
        <p:spPr>
          <a:xfrm>
            <a:off x="2666880" y="32004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10"/>
          <p:cNvSpPr/>
          <p:nvPr/>
        </p:nvSpPr>
        <p:spPr>
          <a:xfrm>
            <a:off x="304920" y="304920"/>
            <a:ext cx="8534160" cy="617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319B0-1132-4238-B1E5-368966EAD5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 u="sng">
                <a:solidFill>
                  <a:srgbClr val="000000"/>
                </a:solidFill>
                <a:uFillTx/>
                <a:latin typeface="Times New Roman"/>
              </a:rPr>
              <a:t>Entes colectiv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3"/>
          <p:cNvSpPr/>
          <p:nvPr/>
        </p:nvSpPr>
        <p:spPr>
          <a:xfrm>
            <a:off x="977040" y="3241800"/>
            <a:ext cx="86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Line 4"/>
          <p:cNvSpPr/>
          <p:nvPr/>
        </p:nvSpPr>
        <p:spPr>
          <a:xfrm>
            <a:off x="1981080" y="35053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5"/>
          <p:cNvSpPr/>
          <p:nvPr/>
        </p:nvSpPr>
        <p:spPr>
          <a:xfrm>
            <a:off x="3504240" y="3276720"/>
            <a:ext cx="252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ota de asign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6"/>
          <p:cNvSpPr/>
          <p:nvPr/>
        </p:nvSpPr>
        <p:spPr>
          <a:xfrm>
            <a:off x="2207520" y="4572000"/>
            <a:ext cx="3289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Valor de transfer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ntes sin fines de lucr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7"/>
          <p:cNvSpPr/>
          <p:nvPr/>
        </p:nvSpPr>
        <p:spPr>
          <a:xfrm>
            <a:off x="228600" y="304920"/>
            <a:ext cx="8686800" cy="6324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44026-7243-4816-8010-2D9C36E513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2"/>
          <p:cNvSpPr/>
          <p:nvPr/>
        </p:nvSpPr>
        <p:spPr>
          <a:xfrm>
            <a:off x="1497240" y="1717560"/>
            <a:ext cx="199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sorcio p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domini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3"/>
          <p:cNvSpPr/>
          <p:nvPr/>
        </p:nvSpPr>
        <p:spPr>
          <a:xfrm>
            <a:off x="5579640" y="1676520"/>
            <a:ext cx="2248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strucción 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domin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4"/>
          <p:cNvSpPr/>
          <p:nvPr/>
        </p:nvSpPr>
        <p:spPr>
          <a:xfrm>
            <a:off x="4114800" y="20574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5"/>
          <p:cNvSpPr/>
          <p:nvPr/>
        </p:nvSpPr>
        <p:spPr>
          <a:xfrm>
            <a:off x="4114800" y="21337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6"/>
          <p:cNvSpPr/>
          <p:nvPr/>
        </p:nvSpPr>
        <p:spPr>
          <a:xfrm flipH="1">
            <a:off x="4343040" y="1752480"/>
            <a:ext cx="2286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7"/>
          <p:cNvSpPr/>
          <p:nvPr/>
        </p:nvSpPr>
        <p:spPr>
          <a:xfrm>
            <a:off x="5650560" y="4149720"/>
            <a:ext cx="21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ictamen 21/9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Line 8"/>
          <p:cNvSpPr/>
          <p:nvPr/>
        </p:nvSpPr>
        <p:spPr>
          <a:xfrm>
            <a:off x="2556000" y="2455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9"/>
          <p:cNvSpPr/>
          <p:nvPr/>
        </p:nvSpPr>
        <p:spPr>
          <a:xfrm>
            <a:off x="608400" y="3043080"/>
            <a:ext cx="385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o hay venta, es adjudic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Line 10"/>
          <p:cNvSpPr/>
          <p:nvPr/>
        </p:nvSpPr>
        <p:spPr>
          <a:xfrm>
            <a:off x="2556000" y="354024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11"/>
          <p:cNvSpPr/>
          <p:nvPr/>
        </p:nvSpPr>
        <p:spPr>
          <a:xfrm>
            <a:off x="1475280" y="4191120"/>
            <a:ext cx="21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ictamen 47/8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12"/>
          <p:cNvSpPr/>
          <p:nvPr/>
        </p:nvSpPr>
        <p:spPr>
          <a:xfrm>
            <a:off x="324000" y="404640"/>
            <a:ext cx="849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 u="sng">
                <a:solidFill>
                  <a:srgbClr val="000000"/>
                </a:solidFill>
                <a:uFillTx/>
                <a:latin typeface="Times New Roman"/>
              </a:rPr>
              <a:t>Entes Colectivo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3"/>
          <p:cNvSpPr/>
          <p:nvPr/>
        </p:nvSpPr>
        <p:spPr>
          <a:xfrm>
            <a:off x="228600" y="304920"/>
            <a:ext cx="8610480" cy="624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Line 14"/>
          <p:cNvSpPr/>
          <p:nvPr/>
        </p:nvSpPr>
        <p:spPr>
          <a:xfrm>
            <a:off x="6732720" y="2455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15"/>
          <p:cNvSpPr/>
          <p:nvPr/>
        </p:nvSpPr>
        <p:spPr>
          <a:xfrm>
            <a:off x="5391720" y="3043080"/>
            <a:ext cx="266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Realidad económ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Line 16"/>
          <p:cNvSpPr/>
          <p:nvPr/>
        </p:nvSpPr>
        <p:spPr>
          <a:xfrm>
            <a:off x="6732720" y="354024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18"/>
          <p:cNvSpPr/>
          <p:nvPr/>
        </p:nvSpPr>
        <p:spPr>
          <a:xfrm>
            <a:off x="684360" y="5348160"/>
            <a:ext cx="50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AR" sz="2400" spc="-1" strike="noStrike">
                <a:solidFill>
                  <a:srgbClr val="000000"/>
                </a:solidFill>
                <a:latin typeface="Times New Roman"/>
              </a:rPr>
              <a:t>Fideicomiso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D322C-25AD-4BAD-915A-5C31776B7D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ntrato en participacion</a:t>
            </a:r>
            <a:br>
              <a:rPr sz="2800"/>
            </a:b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(Sociedad Accidenta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3"/>
          <p:cNvSpPr/>
          <p:nvPr/>
        </p:nvSpPr>
        <p:spPr>
          <a:xfrm>
            <a:off x="1197000" y="2631960"/>
            <a:ext cx="4176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ujeto colec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ujeto  - socio gestor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 relación asociativa oculta -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4"/>
          <p:cNvSpPr/>
          <p:nvPr/>
        </p:nvSpPr>
        <p:spPr>
          <a:xfrm>
            <a:off x="304920" y="304920"/>
            <a:ext cx="8534160" cy="624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4B68F-C84A-41B3-B74E-B4FF226A26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04640"/>
            <a:ext cx="777240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 u="sng">
                <a:solidFill>
                  <a:srgbClr val="000000"/>
                </a:solidFill>
                <a:uFillTx/>
                <a:latin typeface="Times New Roman"/>
              </a:rPr>
              <a:t>Normas y antecedentes relevan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684360" y="1125360"/>
            <a:ext cx="7848360" cy="53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RG. (AFIP) Nº 2854/10 (Retenciones IVA)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RG (AFIP) Nº 2408 (Percepciones IVA) y RG N° 2937 (Percep.Importaciones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RG (AFIP) N° 2226 (Certificacados de exclusión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RG (AFIP) Nº 689 (Entes colectivos de profesionales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Fallo CSJN “Central Neuquen S.A y otros  c/ Prov. Bs. As. Acción declarativa” 16/04/2002. Fallo CNCAF “Ctral Termica Loma de la Lata” 12/3/2020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Dict. (DAT) Nº 20/94 Menores de e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Dict. (DAT) Nº 118/96 (UT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Dict. (DAT) Nº 4/2001 (Transferencia de participaciones UT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Dict. (DAT) Nº 178/94 (AC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Dict. (DAT) Nº 70/2002 Contrato de maquila (art. Nota externa DGI 4/98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Dict. (DATJ) Nº 41/85 Consorcios de construcción (condominio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Dict. (DAT) Nº 21/95 Construcción en condominio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Dict. (DAL) Nº 19/98 Sociedades accidentale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R.G. (AFIP) 1032 (Condominios. Locación de inmuebles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Dict. (DAT) 55/05; (DAT) 16/06 y (DAT) 18/06 (Fideicomisos. Transferencias y adjudicaciones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4"/>
          <p:cNvSpPr/>
          <p:nvPr/>
        </p:nvSpPr>
        <p:spPr>
          <a:xfrm>
            <a:off x="304920" y="304920"/>
            <a:ext cx="8534160" cy="6324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15:37:37Z</dcterms:created>
  <dc:creator>Ernst &amp; Young</dc:creator>
  <dc:description/>
  <dc:language>en-US</dc:language>
  <cp:lastModifiedBy>Angel Pereira</cp:lastModifiedBy>
  <dcterms:modified xsi:type="dcterms:W3CDTF">2024-04-23T15:29:24Z</dcterms:modified>
  <cp:revision>217</cp:revision>
  <dc:subject/>
  <dc:title>ASOCIACION ARGENTINA DE ESTUDIOS FISCALES</dc:title>
</cp:coreProperties>
</file>